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CB7-5E27-48EF-89E2-523AB9ED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927-4712-4A6F-B637-4D72DE24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DCF-E783-4C31-8509-5AE5F33C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24B-AEC3-4E07-9F66-27B64BF2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316-4E92-4C17-A03E-89FCB7BC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D86-D322-4CD0-A1DD-28339D63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F0E-048C-4B0E-B50C-66C41441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A10-9A5B-4BA2-A7FA-3E4A54A4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EB4-44D0-4AB1-A3C0-B4E1C6DB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742-443C-4ED7-83CB-8F5E711A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464-192D-463A-8D27-3BD732C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B09-094E-4578-B342-E6B3FC3C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D9D4E-80F5-4590-8D47-3B947C4402BE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38724-5E38-457C-B215-8E6CC036E005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Do Now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What two types of waves are involved in the workings of a radio?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A. radio and sound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B. light and sound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C. x-ray and infrared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D. infrared and light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Study Time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Independent Practice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Closing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Review gam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1 sentence summary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. Anticipatory S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 no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vie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llect broch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. Foldables or flashcar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3. Independent Practi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4. Clos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vie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 sentence summ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1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61756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318960" indent="-318960" algn="ctr"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Book Antiqua"/>
              </a:rPr>
              <a:t>The distance a wave moves the medium from its rest position</a:t>
            </a:r>
            <a:endParaRPr b="0" lang="en-US" sz="64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4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2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Book Antiqua"/>
              </a:rPr>
              <a:t>The number of complete waves that pass a point in a certain amount of time</a:t>
            </a:r>
            <a:endParaRPr b="0" lang="en-US" sz="5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3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Book Antiqua"/>
              </a:rPr>
              <a:t>The ability to do work</a:t>
            </a:r>
            <a:endParaRPr b="0" lang="en-US" sz="6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4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Book Antiqua"/>
              </a:rPr>
              <a:t>How far the wave travels in a given length of time</a:t>
            </a:r>
            <a:endParaRPr b="0" lang="en-US" sz="5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5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A disturbance that transfers energy from place to place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R6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Book Antiqua"/>
              </a:rPr>
              <a:t>The distance between two corresponding parts of a wave </a:t>
            </a:r>
            <a:endParaRPr b="0" lang="en-US" sz="6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Options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Book Antiqua"/>
              </a:rPr>
              <a:t>Foldable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3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Book Antiqua"/>
              </a:rPr>
              <a:t>Flashcards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38:33Z</dcterms:created>
  <dc:creator>Caroline Roth</dc:creator>
  <dc:description/>
  <dc:language>en-US</dc:language>
  <cp:lastModifiedBy>Caroline Roth</cp:lastModifiedBy>
  <dcterms:modified xsi:type="dcterms:W3CDTF">2011-01-06T22:29:17Z</dcterms:modified>
  <cp:revision>4</cp:revision>
  <dc:subject/>
  <dc:title>Do Now</dc:title>
</cp:coreProperties>
</file>